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BB6-20BC-4D32-A1AC-3DFC412B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9DD-1AF3-4216-BE87-AB1D0921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B69-ED1B-4EAA-B32A-1D6C10FD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BAA-740D-41C1-BBA9-3909D680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FDCA-D6DD-40E1-A6ED-2666D638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3946-DB79-4AB7-9B32-D6BF36B3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6FA6-A3BA-49B8-BECA-DC2ACCB1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42EB-F218-406D-AA32-70056042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9EDB-8106-42C2-9F52-7038D5A0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B7EE-BD02-40CE-95F5-5A8C864D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399D-ADCF-410E-A384-58B74C2B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727-DAF6-4BFD-AF80-63880EA6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DD7F-3815-4AF3-921B-F662BB9A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B267-9EFD-4C99-B9FB-EAFFE314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4BC9-8F99-4A0D-A731-C8865547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1D65-291B-4CFB-857E-9F165922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0AE7-B0E6-4E7D-8039-7A328777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E420-38BE-4584-8E15-9362456E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E232-2F4F-4BD6-9B7D-5967A82C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3C230-2A09-4AB2-9BA2-F53B68BC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9F152-787F-4D39-A2D1-F490FBB5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9D7E-E433-48B0-A634-8061A961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69D-4EBE-4FDB-A8E4-CBC004CE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3105-B254-4861-BE8F-1F313754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6301-346C-481F-BFD1-EED15F26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D31B-9C7D-4265-B496-93A0A2E8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2627-0863-4163-B4B6-EF4DE33D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719A6-C16B-4E11-B3ED-26E3DF46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66214-99FF-439C-B34A-6FF003CD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A8E6C-40E7-46D5-B504-EF2307F9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6C5-1253-4519-83BF-491905D2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A31-D1CC-48DE-BA10-DE7A0EE7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82C-07B0-4A28-A153-B5E75577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384-5C6C-4263-B8F8-7ED9301D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672-51A4-4209-BD22-82309C72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1BC-D87B-450C-93EA-58ADA18A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ABD1-BA02-4267-9577-4D6BB65E7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DBA6-81D6-4AE9-87FB-B6127E6271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59E0-2DBB-4AA4-93A0-B995D721399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 Bella Casa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Maddie Norfol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Es el gara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garaje es grande, y es boni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44290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 cas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asa es grande, bonita, y magnif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47628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sal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sala es fabulosa, lujosa, y moder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94360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el comedor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omedor es lujoso 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715000" cy="42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s el ba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b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s bello y moder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586728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Es una cuart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cuarto es bonita, fabulosa, y estupen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486400" cy="34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s una coci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cocina es increible y bel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el pati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patio es bella y lujo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Es una jardin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jadin es bonita y be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1:01Z</dcterms:created>
  <dc:creator>norfolkmad</dc:creator>
  <dc:description/>
  <dc:language>en-US</dc:language>
  <cp:lastModifiedBy>norfolkmad</cp:lastModifiedBy>
  <dcterms:modified xsi:type="dcterms:W3CDTF">2012-10-25T17:28:04Z</dcterms:modified>
  <cp:revision>4</cp:revision>
  <dc:subject/>
  <dc:title>Mi Bella Casa </dc:title>
</cp:coreProperties>
</file>